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352-6122-4267-B5C0-6382F825DCF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9954-A95B-4933-A688-75B039C2D5F0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47A1-182F-4C90-8BB6-950AE33D3B89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F643-EFC1-44B0-B517-ED554C91E8FE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A4C-7183-4518-81FA-E47F88A4DC30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BD61-0B23-4FE4-A2B2-54D3DD9138B3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EE86-6247-4DD1-BE0F-1E80A97CBC47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7228-6E08-4398-863F-03E189FF565F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0C1-F998-46B4-9D3F-F17788ED8E24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5192-DF69-446A-9207-63C0A8EC35EC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604-C1D8-47A2-BD87-CFCF24264B3D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50F-0711-44F9-8244-763895B3A272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F16-C2FE-4B48-A762-241BEF69F740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FF7-CAD3-4C50-9136-044929580A2B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2FF7-EFBB-447D-900E-52E0889F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C0C7-C221-47EE-819F-4254F999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9EBA-96FE-495B-ACFE-19E91E65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3776-0970-4C38-B997-E550EEF3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05A6-45BA-48AD-A8FF-AB90B7D0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90FC-49C6-4E3A-A7E8-F723762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462-7BA3-44E3-B5AB-0D7A2C7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86C5-8328-4E51-9741-979DF87C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91A-3A1A-490B-9056-7AE5BB8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BFBB-C08D-43E2-A5A9-C8F1602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7AF-CCFC-4476-93D5-5F82BAE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360A-3AEF-440A-BABF-22086065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04F-3A0B-4F04-8B97-BE5F9F0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037-1EA2-4398-9A0E-BAA7DDA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4B9F-3E9B-4979-A6B8-586F930C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641A-4E80-44BB-961A-31DB5A4B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2080-5F86-4ADB-9356-244BFEA4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CFC6-F2C9-4BAC-8A82-0D80C8B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92DE-3FC7-4D65-A18D-D5CB554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E807-4BE8-4BB9-B0F2-232DB8E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3CA9-5021-4DF0-9C95-FE95FCA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4898-3549-4707-9EEF-A8AD50E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C347-D18B-475B-864D-484639E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F046-9627-47E7-9AF7-CC64718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C7B2-140C-47B0-8D2D-A3AE3123910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39EF-4601-4825-8258-D7ADDE78D8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1352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Tahoma"/>
              </a:rPr>
              <a:t>HIGIENE PERSONAL EN EL ADOLESCENT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5892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ntender la importancia de la higiene personal y corporal  de las distintas partes de nuestro cue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Big Mouth» | Wall Street International Magazine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317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08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99"/>
                </a:solidFill>
                <a:latin typeface="Tahoma"/>
              </a:rPr>
              <a:t>LOS GENITALES</a:t>
            </a: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661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genitales, al estar tan próximos a los orificios de salida de la orina y las heces son una parte del cuerpo que requieren especial aten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varse todos los días y utilizar un jabón suave que evite las irrit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tilizar ropa interior de algodón que evite la transpiración, la puede provocar la aparición de hongos y otras enferme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8" descr="ANd9GcSFeSQf1PD4P00L_gSnwEPCj9aMWP8E1391DEPJ2m4uje1yxz2q"/>
          <p:cNvPicPr/>
          <p:nvPr/>
        </p:nvPicPr>
        <p:blipFill>
          <a:blip r:embed="rId1"/>
          <a:stretch/>
        </p:blipFill>
        <p:spPr>
          <a:xfrm>
            <a:off x="2340000" y="765000"/>
            <a:ext cx="43927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99"/>
                </a:solidFill>
                <a:latin typeface="Tahoma"/>
              </a:rPr>
              <a:t>HIGIENE DE LA ROPA Y EL CALZADO</a:t>
            </a:r>
            <a:r>
              <a:rPr b="0" lang="es-ES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 igual que el cuerpo, y por estar en contacto con él, la ropa y el calzado deben ser objeto de especial aten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indispensable cambiarse de ropa después de la ducha o bañ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opa interior se deberá cambiar diariamen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alzado ventilarse todos los d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MP900403139[1]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MC900332928[1]"/>
          <p:cNvPicPr/>
          <p:nvPr/>
        </p:nvPicPr>
        <p:blipFill>
          <a:blip r:embed="rId2"/>
          <a:stretch/>
        </p:blipFill>
        <p:spPr>
          <a:xfrm>
            <a:off x="5765760" y="4157640"/>
            <a:ext cx="1803600" cy="175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99"/>
                </a:solidFill>
                <a:latin typeface="Tahoma"/>
              </a:rPr>
              <a:t>HIGIENE DEL SUEÑO</a:t>
            </a: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982800"/>
            <a:ext cx="453528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 veces pensamos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higiene se relaciona solo con el aseo del cuerpo, pero no es a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sueño es necesario para que el cuerpo se recupere de la actividad diaria. Las necesidades del sueño varían según la edad y la actividad de los individu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adolescentes de 8 a 10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7" descr="MP900430984[1]"/>
          <p:cNvPicPr/>
          <p:nvPr/>
        </p:nvPicPr>
        <p:blipFill>
          <a:blip r:embed="rId1"/>
          <a:stretch/>
        </p:blipFill>
        <p:spPr>
          <a:xfrm>
            <a:off x="5095800" y="18464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1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HIGIENE DE LA BOCA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boca desempeña varias funciones importantes, con ella hablas, sonríes y masticas los alimentos y la parte más importante de la boca son los dien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MP900424377[1]"/>
          <p:cNvPicPr/>
          <p:nvPr/>
        </p:nvPicPr>
        <p:blipFill>
          <a:blip r:embed="rId1"/>
          <a:stretch/>
        </p:blipFill>
        <p:spPr>
          <a:xfrm>
            <a:off x="5651640" y="765000"/>
            <a:ext cx="3317760" cy="345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0" y="4581360"/>
            <a:ext cx="9036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99"/>
                </a:solidFill>
                <a:latin typeface="Tahoma"/>
              </a:rPr>
              <a:t>HIGIENE  alimentaria</a:t>
            </a: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373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blecer normas de alimentación adecuadas es muy impor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adolescente necesita mantener una buena alimentación ya que esto le permitirá terminar su desarrollo corporal en optimas condi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Imagen 3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42472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5120" y="1116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ra finalizar resuelve esta actividad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22120" y="460440"/>
            <a:ext cx="8713800" cy="611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305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estar limpios, nos permite sentirnos y vernos bien, ser aceptados por los demás y evitamos enfermedades e infecciones en la piel, en los órganos sexuales o en la boc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12" descr="ANd9GcQw-2c_j0FP2jd2_cUeFhDspkEBU1LMal1_UHUWEQ1OPwhCWSCLgA"/>
          <p:cNvPicPr/>
          <p:nvPr/>
        </p:nvPicPr>
        <p:blipFill>
          <a:blip r:embed="rId1"/>
          <a:stretch/>
        </p:blipFill>
        <p:spPr>
          <a:xfrm>
            <a:off x="4859280" y="90792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ADOLESCENCIA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urante la adolescencia muchas funciones del cuerpo cambian y algunas de ellas hacen que el cuerpo produzca más sustancias o fluidos como mayor cantidad de sudor o de grasa. Todas estas sustancias producen nuevos olores y no muy agradables, por lo que la higiene debe ser muy cuidadosa y frecu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SEXUALIDAD-NI%25C3%2591OS1"/>
          <p:cNvPicPr/>
          <p:nvPr/>
        </p:nvPicPr>
        <p:blipFill>
          <a:blip r:embed="rId1"/>
          <a:stretch/>
        </p:blipFill>
        <p:spPr>
          <a:xfrm>
            <a:off x="4284720" y="4508640"/>
            <a:ext cx="3913200" cy="2023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2520" y="2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99"/>
                </a:solidFill>
                <a:latin typeface="Tahoma"/>
              </a:rPr>
              <a:t>En la adolescencia se activan las glándulas.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292640" y="1413000"/>
            <a:ext cx="438480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330800" y="4111560"/>
            <a:ext cx="4549680" cy="242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rcRect l="0" t="0" r="7075" b="0"/>
          <a:stretch/>
        </p:blipFill>
        <p:spPr>
          <a:xfrm>
            <a:off x="539640" y="1413000"/>
            <a:ext cx="367992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s-ES" sz="3800" spc="-1" strike="noStrike">
                <a:solidFill>
                  <a:srgbClr val="000099"/>
                </a:solidFill>
                <a:latin typeface="Tahoma"/>
              </a:rPr>
              <a:t>HIGIENE DE LA PIEL</a:t>
            </a:r>
            <a:r>
              <a:rPr b="0" lang="es-ES" sz="3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glándulas sebáceas empiezan a producir mayor cantidad de sebo o grasa, sobre todo en la cabeza, cara, pecho y espalda lo que ocasiona la aparición de espinillas. El baño diario y el lavado de las partes afectadas dos veces al día, con agua tibia y jabón neutro ayudan much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8" descr="ANd9GcTHZtW-QopBucbdY6SJQk8BArjPuaaO0a9jGc9xEoxiDQ7MUmbMHA"/>
          <p:cNvPicPr/>
          <p:nvPr/>
        </p:nvPicPr>
        <p:blipFill>
          <a:blip r:embed="rId1"/>
          <a:stretch/>
        </p:blipFill>
        <p:spPr>
          <a:xfrm>
            <a:off x="5292720" y="1773360"/>
            <a:ext cx="33829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63320"/>
            <a:ext cx="822960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glándulas sudoríparas producen gran cantidad de sudor, lo que favorece el desarrollo de algunas enfermedades infecciosas llamadas micosis, que causadas por hongos y otras como la sarna causadas por parásitos. Entre las más comunes están la tiña y el pie de atleta o la sarn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recomendaciones son lavar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zonas que traspiran má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mbiarse los calcetines todos l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ías, utilizar antitranspirantes y dej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s zapatos o zapatillas ventilánd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urante la noche, bien abier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MP900425200[1]"/>
          <p:cNvPicPr/>
          <p:nvPr/>
        </p:nvPicPr>
        <p:blipFill>
          <a:blip r:embed="rId1"/>
          <a:stretch/>
        </p:blipFill>
        <p:spPr>
          <a:xfrm>
            <a:off x="6505560" y="3451320"/>
            <a:ext cx="260208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bien el sudor ayuda a refrescar la piel y a eliminar sustancias tóxicas del cuerpo, también produce mal olor y puede favorecer el desarrollo de hongos en las partes que quedan húmedas, por lo que es recomendable usar desodorantes, bañarse diariamente, usar ropa limpia y no apretada, lavar y ventilar el calzad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8" descr="ANd9GcQ7chh_oua_rkutEPQ3YROdmBXnovrYW3_prKXIkJhKfgjN9y_8"/>
          <p:cNvPicPr/>
          <p:nvPr/>
        </p:nvPicPr>
        <p:blipFill>
          <a:blip r:embed="rId1"/>
          <a:stretch/>
        </p:blipFill>
        <p:spPr>
          <a:xfrm>
            <a:off x="5219640" y="333360"/>
            <a:ext cx="2305080" cy="3240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4076640" y="285768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076640" y="285768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076640" y="285768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18" descr="ANd9GcRsdZ_RSulLQN-TNKpR2gipGDOEhgPelwMY-GADf4JjSFk51N5V"/>
          <p:cNvPicPr/>
          <p:nvPr/>
        </p:nvPicPr>
        <p:blipFill>
          <a:blip r:embed="rId2"/>
          <a:stretch/>
        </p:blipFill>
        <p:spPr>
          <a:xfrm>
            <a:off x="6732720" y="3933720"/>
            <a:ext cx="1962000" cy="233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99"/>
                </a:solidFill>
                <a:latin typeface="Tahoma"/>
              </a:rPr>
              <a:t>EL  CABELLO</a:t>
            </a: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l cabello se ensucia con mucha facilidad porque retiene el polvo, las secreciones del cuero cabelludo y su descamación (la caspa) y también puede haber contagio de  los pio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ortante lavarse a lo menos 2 veces por semana, utilizando un shampo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decuado a su tipo de cab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7" descr="ANd9GcSC65EHqzbqytwmAbnLK3sjewSwf7rVBdXtL4KXN7f3Vqmhf8Tc"/>
          <p:cNvPicPr/>
          <p:nvPr/>
        </p:nvPicPr>
        <p:blipFill>
          <a:blip r:embed="rId1"/>
          <a:stretch/>
        </p:blipFill>
        <p:spPr>
          <a:xfrm>
            <a:off x="5867280" y="4108320"/>
            <a:ext cx="3168720" cy="252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48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99"/>
                </a:solidFill>
                <a:latin typeface="Tahoma"/>
              </a:rPr>
              <a:t>LAS MANOS Y LAS UÑAS</a:t>
            </a:r>
            <a:r>
              <a:rPr b="0" lang="es-ES" sz="4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033200"/>
            <a:ext cx="612144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manos, por su relación directa y constante con el medio, son uno de los más importantes vehículos de transmisión de infecciones, y hoy en día con la pandemia del  corona virus con mayor razón se necesita una higiene y cuidado especial de el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y que lavárselas con agua y jabón con la frecuencia necesaria, hoy, cada vez que se tenga contacto con superficies riesgosas, de tener el 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ANd9GcRLwiaYyViP0BfgVvDPHjyOaRyEE5Ve-RZJ4LqjBftM1WWHiNwS"/>
          <p:cNvPicPr/>
          <p:nvPr/>
        </p:nvPicPr>
        <p:blipFill>
          <a:blip r:embed="rId1"/>
          <a:stretch/>
        </p:blipFill>
        <p:spPr>
          <a:xfrm>
            <a:off x="6470640" y="1413000"/>
            <a:ext cx="264960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1:01:12Z</dcterms:created>
  <dc:creator>user</dc:creator>
  <dc:description/>
  <dc:language>en-US</dc:language>
  <cp:lastModifiedBy>PABLO OREL VERDUGO VERDEJO</cp:lastModifiedBy>
  <dcterms:modified xsi:type="dcterms:W3CDTF">2021-07-28T15:11:32Z</dcterms:modified>
  <cp:revision>19</cp:revision>
  <dc:subject/>
  <dc:title>HIGIENE PERSONAL Y SEGURIDAD EN EL ADOLESCENTE</dc:title>
</cp:coreProperties>
</file>