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gif" ContentType="image/gif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4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P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174BB-FD56-4C59-A500-02E0396B5AE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14E98-D615-472A-856C-FD6FFA489D4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D2F-38F3-4B7F-B90E-83B080B3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237-2DFD-44FD-A202-9566EBD1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79F-D78A-43B3-8877-0249B026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A70-B34E-41AA-AA50-1A57D126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3F25-B239-4AF8-B015-A0491E79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267B-6C84-46B5-9C55-013DADBC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5060-CB78-4B50-84B8-43E351CF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3CF3-B121-446F-9393-2BADBFAF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5629-2DDF-4B91-A94B-B93F340B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FE57-276B-43D3-AEC4-23D18F2F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E117-8B25-4C54-B76D-6321DF6F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0C6-BE6D-4AA3-8841-3948F43B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9312-31A1-4A1B-9E8E-6E77D65D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C6FC-9B22-4ED8-9073-90DB5590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8E94-2965-4625-A8E4-F2A8FDE9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FDBA-6FFE-4B85-A744-B81E6D66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0F3E-069C-41B9-B123-0CA0F4ED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79532-C5A0-4168-965C-17E4635C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DEF9-4FDF-4422-B709-C178353A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93A7-D13F-4780-B1B0-91C83009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6202-692D-434E-9B22-5257695A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8CA5-CC26-4FB3-8B84-BF90438E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887-C791-4696-A232-66610386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2F4C-7993-4B5E-8AC9-E6E37995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D71D-E452-4344-B1F4-2157B11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0959F-89E7-43B5-85A1-B5899BE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9DF8-F451-4D90-A1FB-5495F918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1F0C-F85C-4357-8DAE-6423C9BE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A5ADC-CAEE-4D73-8802-73DF62E1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FBCD-B3B4-4E66-9820-6A5FF972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0CEE-9AE0-4778-9C45-246D0B9F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7C1B-75FC-45B1-A61C-1D22402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1DB4-5EAD-4D68-8DD4-BC2D156B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D99-5120-4BDF-B7F6-CA026212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41470-2605-46C6-982D-97389116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3F45-7872-409E-A7E4-A3E2FB3F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8D9AD-DED1-4734-AF41-1D7FEC54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BB28-EAFE-47D3-9261-AEFBBCA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24B2F-0AA6-4FD7-9B23-1CFA41B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70A6-B16A-41F4-BA04-BE9D7DA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F4B5-345C-4E28-B4A6-B556BA94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BDEA-2A5D-4269-B0E0-9314C7CC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C78DF-D13F-4FD2-90A6-0E9323F9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46DC9-A77B-4D26-8DC1-77A3E6E8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459-5472-4224-A3C7-CC5CB228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42753-397E-4776-86A9-F64FCC7B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3088-CE30-4152-AACE-0E61EF21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E0B3-D7B0-46DB-AE27-FC2A4CFE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36922-589E-4408-B2EE-000D48CC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E709-B7C9-459D-9A17-4E535610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2DEA-B709-44A8-9302-6B839F8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68B74-EBBA-45C0-908A-EF36FCA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C9770-E660-4FCE-B3CC-B18DF5EF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06BC9-3CA1-4183-AF78-DEA29AAB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34452-4B01-474E-8D76-A581E97F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28A-EE16-406C-8444-1CFD91C7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48108-3DA7-46CF-AA46-43E3E3F1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A64B-144C-4769-BF87-2236160E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7189-EF92-4FC3-ABFA-66AB9A02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A72B-B72D-4B0C-A30B-C5E5AFCA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0D83-2B42-4637-8F1C-460DFD15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18BAF-EC13-45B2-93B3-9DC50183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606F1-0C0E-42B2-9DC2-F53B6E28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C5FA-A71B-4132-8E8C-401FF01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FFD4-39E1-4061-A8B2-5D67C60A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0988-73CA-4E8F-807E-A13FCC35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63C-C9A8-4194-ABD6-25218F5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B176-C197-45E9-9429-B0363817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6754-7A5A-4765-9263-9984FF4F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54E4-CD24-4E08-80C0-13421A69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5439C-7722-4621-8E67-04B2022D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D3368-38E6-4F34-8D35-C8A77CAE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CBB8-7A22-40B8-AACB-4A5C2501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3C588-6CBC-4646-B856-F183BB03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F5F22-BF45-4BA9-8507-3B9D16C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92771-2C5A-43F3-BD29-61F62978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50D5-C8A1-4E97-B59F-0193A70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805-77FF-44D0-B58C-A267E71D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352FE-5E4B-494B-9F32-AD65996E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03977-1D01-4CD7-9AA5-0CD1ECFB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BBF61-B4BB-4C11-975E-6CBAAAF9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F505-9056-423B-82FB-2D302873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40CDF-75CF-4034-9067-EE537782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AA6-91E7-49A5-B486-38011E4C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C2374-8C0A-4D54-B1DF-443D706F486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7A19C-1D6E-46D3-BE27-2C3E97616D5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02ED0-C8C9-4319-853C-204B6EB320D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B53EB-AD46-4EA7-8C5E-A32DCB59CE0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BC83E-91E4-40DE-A589-56C36F47D6E8}" type="slidenum">
              <a:rPr b="0" lang="es-E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55BF0-DA52-496B-ABB4-B4C29B6C9357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87010-A4A7-4348-8DD3-9B065AFF623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s-PE" sz="4400" spc="-1" strike="noStrike">
                <a:solidFill>
                  <a:srgbClr val="262626"/>
                </a:solidFill>
                <a:latin typeface="Britannic Bold"/>
              </a:rPr>
              <a:t>Terremotos y volcanismo.</a:t>
            </a:r>
            <a:br>
              <a:rPr sz="4400"/>
            </a:br>
            <a:br>
              <a:rPr sz="7200"/>
            </a:br>
            <a:r>
              <a:rPr b="1" lang="es-PE" sz="2400" spc="-1" strike="noStrike">
                <a:solidFill>
                  <a:srgbClr val="262626"/>
                </a:solidFill>
                <a:latin typeface="Calibri Light"/>
              </a:rPr>
              <a:t>objetivos:</a:t>
            </a:r>
            <a:br>
              <a:rPr sz="2400"/>
            </a:br>
            <a:r>
              <a:rPr b="0" lang="es-PE" sz="2400" spc="-1" strike="noStrike">
                <a:solidFill>
                  <a:srgbClr val="262626"/>
                </a:solidFill>
                <a:latin typeface="Calibri Light"/>
              </a:rPr>
              <a:t>Identificar las causas principales de la producción de sismos,  terremotos y erupciones volcánicas.</a:t>
            </a:r>
            <a:br>
              <a:rPr sz="2400"/>
            </a:br>
            <a:r>
              <a:rPr b="0" lang="es-PE" sz="2400" spc="-1" strike="noStrike">
                <a:solidFill>
                  <a:srgbClr val="262626"/>
                </a:solidFill>
                <a:latin typeface="Calibri Light"/>
              </a:rPr>
              <a:t>Entender conceptos relacionados con el volcanismo y actividad sísmica.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2" name="Imagen 3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666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4360" y="14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 sismogram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71360" y="1773360"/>
            <a:ext cx="460872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Los gráficos producidos por los sismógrafos se conocen como sismogramas, y a partir de ellos es posible determinar el lugar y la intensidad de un terremoto. Muchos sismogramas son muy complicados y se requiere una técnica y experiencia considerables para interpretarlos, pero los más simples no son difíciles de leer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5" name="Picture 4" descr="sismografo"/>
          <p:cNvPicPr/>
          <p:nvPr/>
        </p:nvPicPr>
        <p:blipFill>
          <a:blip r:embed="rId1"/>
          <a:stretch/>
        </p:blipFill>
        <p:spPr>
          <a:xfrm>
            <a:off x="4754520" y="1484280"/>
            <a:ext cx="4218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La escala de Ritch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5280" y="1858680"/>
            <a:ext cx="6624720" cy="3268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Para medir la magnitud de un terremoto, se utiliza la escala de Ritcher, que consta de 9 grados, cada uno de los cuales supone una liberación de energía 10 veces superior a la del grado anterior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Picture 4" descr="earthquake03"/>
          <p:cNvPicPr/>
          <p:nvPr/>
        </p:nvPicPr>
        <p:blipFill>
          <a:blip r:embed="rId1"/>
          <a:stretch/>
        </p:blipFill>
        <p:spPr>
          <a:xfrm>
            <a:off x="3083040" y="400536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349" name="Imagen 4" descr="Imagen que contiene juguete, muñeca, interior, pequeño&#10;&#10;Descripción generada automáticamente"/>
          <p:cNvPicPr/>
          <p:nvPr/>
        </p:nvPicPr>
        <p:blipFill>
          <a:blip r:embed="rId2"/>
          <a:stretch/>
        </p:blipFill>
        <p:spPr>
          <a:xfrm>
            <a:off x="6948360" y="2492280"/>
            <a:ext cx="1422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La escala de Ritch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enor de 3,5: Aunque no se suele sentir, es registrado por los sismógrafo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De 3,5 a 5,4: Generalmente se siente, pero sólo causa daños menore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De 5,5 a 6,0: Produce pequeños daños en edificio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De 6,1 a 6,9: Puede ocasionar daños muy importantes en áreas poblada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De 7,0 a 7,9: Causa graves daños: hundimiento de puentes y derrumbe de muchos edificio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Mayor de 7,9: Provoca una destrucción total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iapositiva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Escala de Mercalli – SeismicKnowledge"/>
          <p:cNvPicPr/>
          <p:nvPr/>
        </p:nvPicPr>
        <p:blipFill>
          <a:blip r:embed="rId1"/>
          <a:srcRect l="3540" t="5203" r="1964" b="10801"/>
          <a:stretch/>
        </p:blipFill>
        <p:spPr>
          <a:xfrm>
            <a:off x="324000" y="26028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56894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¿Qué es un tsunami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23640" y="1798560"/>
            <a:ext cx="50101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Palabra japonesa utilizada como término científico para describir las olas marinas de origen sísmico. Se trata de grandes olas generadas por un terremoto submarino o maremoto, cuando el suelo del océano bascula durante el temblor o se producen corrimientos de tierra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Un tsunami puede viajar cientos de kilómetros por alta mar y alcanzar velocidades en torno a los 725 u 800 km/h. La ola, que en el mar puede tener una altura de solo un metro, se convierte súbitamente en un muro de agua de 15 m al llegar a las aguas poco profundas de la costa y es capaz de destruir las poblaciones que encuentre en ella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6" name="Picture 4" descr="tsunami"/>
          <p:cNvPicPr/>
          <p:nvPr/>
        </p:nvPicPr>
        <p:blipFill>
          <a:blip r:embed="rId1"/>
          <a:stretch/>
        </p:blipFill>
        <p:spPr>
          <a:xfrm>
            <a:off x="6443640" y="571680"/>
            <a:ext cx="1905120" cy="1895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tsunami2"/>
          <p:cNvPicPr/>
          <p:nvPr/>
        </p:nvPicPr>
        <p:blipFill>
          <a:blip r:embed="rId2"/>
          <a:stretch/>
        </p:blipFill>
        <p:spPr>
          <a:xfrm>
            <a:off x="6157800" y="2612880"/>
            <a:ext cx="2540160" cy="1778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tsunami3"/>
          <p:cNvPicPr/>
          <p:nvPr/>
        </p:nvPicPr>
        <p:blipFill>
          <a:blip r:embed="rId3"/>
          <a:stretch/>
        </p:blipFill>
        <p:spPr>
          <a:xfrm>
            <a:off x="5680080" y="4400640"/>
            <a:ext cx="30099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758520"/>
            <a:ext cx="7543800" cy="21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262626"/>
                </a:solidFill>
                <a:latin typeface="Calibri Light"/>
              </a:rPr>
              <a:t>LOS VOLCANE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115920"/>
            <a:ext cx="75438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¿Qué es un volcán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40960" y="1077840"/>
            <a:ext cx="75438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En el interior de la Tierra las rocas se encuentran fundidas, debido a las altas presiones y temperaturas, constituyendo lo que se llama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Si el magma consigue salir al exterior se origina un </a:t>
            </a:r>
            <a:r>
              <a:rPr b="0" lang="es-ES" sz="2000" spc="-1" strike="noStrike">
                <a:solidFill>
                  <a:srgbClr val="637052"/>
                </a:solidFill>
                <a:latin typeface="Calibri"/>
              </a:rPr>
              <a:t>volcá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2" name="Imagen 1" descr=""/>
          <p:cNvPicPr/>
          <p:nvPr/>
        </p:nvPicPr>
        <p:blipFill>
          <a:blip r:embed="rId1"/>
          <a:stretch/>
        </p:blipFill>
        <p:spPr>
          <a:xfrm>
            <a:off x="841320" y="2371680"/>
            <a:ext cx="6970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99920" y="2988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Partes de un volcá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4" name="Picture 5" descr="volcan"/>
          <p:cNvPicPr/>
          <p:nvPr/>
        </p:nvPicPr>
        <p:blipFill>
          <a:blip r:embed="rId1"/>
          <a:stretch/>
        </p:blipFill>
        <p:spPr>
          <a:xfrm>
            <a:off x="395280" y="1052640"/>
            <a:ext cx="82090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404040"/>
                </a:solidFill>
                <a:latin typeface="Calibri Light"/>
              </a:rPr>
              <a:t>Productos que arroja un volcán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41360" y="1052280"/>
            <a:ext cx="830736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SÓLIDOS (PIROCLASTOS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Cenizas (partículas de menos de 2 mm de diámetro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Lapillis (guijarros entre 2 y 64 mm de diámetro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Bombas volcánicas (rocas redondeadas mayores de 64 mm de diámetro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LÍQUIDOS (LAVA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Materiales fundidos a temperaturas superiores a 1.000 ºC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GASEOSO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Vapor de agua, sulfuro de hidrógeno y dióxido de carbono, principalmen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5" name="Picture 2" descr="Diapositiva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Tipos de volcan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24000" y="1125000"/>
            <a:ext cx="849600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Atendiendo a las características de las erupciones, los volcanes se clasifican en tres tipo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bri"/>
              </a:rPr>
              <a:t>VOLCÁN HAWAIAN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bri"/>
              </a:rPr>
              <a:t>VOLCÁN ESTROMBOLIAN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bri"/>
              </a:rPr>
              <a:t>VOLCÁN PELEAN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Volcán hawaian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15920"/>
            <a:ext cx="4114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Si el magma es muy fluido, el gas acumulado en él se escapa fácilmente produciendo erupciones tranquilas y formando extensas colada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1" name="Picture 5" descr="hawaiano"/>
          <p:cNvPicPr/>
          <p:nvPr/>
        </p:nvPicPr>
        <p:blipFill>
          <a:blip r:embed="rId1"/>
          <a:stretch/>
        </p:blipFill>
        <p:spPr>
          <a:xfrm>
            <a:off x="5148360" y="692280"/>
            <a:ext cx="3671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271080"/>
            <a:ext cx="583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Volcán estrombolian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418608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Si el magma es más viscoso, las erupciones son violentas y se producen coladas extensas de lava. Son los volcanes más típicos y conocido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4" name="Picture 5" descr="estromboli"/>
          <p:cNvPicPr/>
          <p:nvPr/>
        </p:nvPicPr>
        <p:blipFill>
          <a:blip r:embed="rId1"/>
          <a:stretch/>
        </p:blipFill>
        <p:spPr>
          <a:xfrm>
            <a:off x="5076720" y="1252440"/>
            <a:ext cx="367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468648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Volcán pelean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773360"/>
            <a:ext cx="433080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Si el magma es muy viscoso, los gases escapan con dificultad, por lo que originan erupciones muy explosivas y la lava sale prácticamente sólida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7" name="Picture 5" descr="peleano"/>
          <p:cNvPicPr/>
          <p:nvPr/>
        </p:nvPicPr>
        <p:blipFill>
          <a:blip r:embed="rId1"/>
          <a:stretch/>
        </p:blipFill>
        <p:spPr>
          <a:xfrm>
            <a:off x="5149800" y="549360"/>
            <a:ext cx="3537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59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Vulcanismo atenuad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203280" y="1722600"/>
            <a:ext cx="5267160" cy="3412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En zonas volcánicas donde no hay volcanes activos, o en las proximidades de algún volcán activo, se pueden producir emisiones de gases o líquidos a elevadas temperaturas. Las formas más comunes de este vulcanismo atenuado son las siguientes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0" name="Imagen 3" descr="Dibujo animado de un personaje animado&#10;&#10;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539640" y="1557360"/>
            <a:ext cx="266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FUMAROLA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316040" y="2565000"/>
            <a:ext cx="403236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Emanaciones de gases a altas temperaturas que escapan por el cráter y las grieta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3" name="Picture 4" descr="fumarola"/>
          <p:cNvPicPr/>
          <p:nvPr/>
        </p:nvPicPr>
        <p:blipFill>
          <a:blip r:embed="rId1"/>
          <a:stretch/>
        </p:blipFill>
        <p:spPr>
          <a:xfrm>
            <a:off x="777960" y="1758960"/>
            <a:ext cx="2878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FUENTES TERMAL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3280" y="1989000"/>
            <a:ext cx="3683160" cy="288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Emisiones regulares de agua caliente en forma apacible. Son aguas muy ricas en sales minerale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6" name="Picture 4" descr="termas"/>
          <p:cNvPicPr/>
          <p:nvPr/>
        </p:nvPicPr>
        <p:blipFill>
          <a:blip r:embed="rId1"/>
          <a:stretch/>
        </p:blipFill>
        <p:spPr>
          <a:xfrm>
            <a:off x="1258920" y="1341360"/>
            <a:ext cx="334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36054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GÉISER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51280" y="2637000"/>
            <a:ext cx="46195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404040"/>
                </a:solidFill>
                <a:latin typeface="Calibri"/>
              </a:rPr>
              <a:t>Erupciones intermitentes de agua caliente y muy mineralizada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9" name="Picture 4" descr="geiser"/>
          <p:cNvPicPr/>
          <p:nvPr/>
        </p:nvPicPr>
        <p:blipFill>
          <a:blip r:embed="rId1"/>
          <a:stretch/>
        </p:blipFill>
        <p:spPr>
          <a:xfrm>
            <a:off x="673200" y="1484280"/>
            <a:ext cx="2946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En el Cinturón de Fuego del Pacífico la actividad sigue siendo normal |  Centro Nacional de Prevención de Desastres | Gobierno | gob.mx"/>
          <p:cNvPicPr/>
          <p:nvPr/>
        </p:nvPicPr>
        <p:blipFill>
          <a:blip r:embed="rId1"/>
          <a:srcRect l="0" t="0" r="0" b="14301"/>
          <a:stretch/>
        </p:blipFill>
        <p:spPr>
          <a:xfrm>
            <a:off x="179280" y="0"/>
            <a:ext cx="8964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21880" y="1846080"/>
            <a:ext cx="75438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404040"/>
                </a:solidFill>
                <a:latin typeface="Calibri"/>
              </a:rPr>
              <a:t>¿Qué son?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404040"/>
                </a:solidFill>
                <a:latin typeface="Calibri"/>
              </a:rPr>
              <a:t>¿Por qué se producen?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404040"/>
                </a:solidFill>
                <a:latin typeface="Calibri"/>
              </a:rPr>
              <a:t>¿Se pueden predecir?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614520" y="1206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637052"/>
                </a:solidFill>
                <a:latin typeface="Calibri Light"/>
              </a:rPr>
              <a:t>LOS TERREMO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Imagen 4" descr="Un dibujo de un perro&#10;&#10;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395280" y="1628640"/>
            <a:ext cx="17287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404040"/>
                </a:solidFill>
                <a:latin typeface="Calibri Light"/>
              </a:rPr>
              <a:t>¿Qué es un terremoto?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63440" y="1557360"/>
            <a:ext cx="736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Los terremotos, o seísmos, son movimientos bruscos de las capas superficiales de la Tierra, producidos por la fractura y el desplazamiento de grandes masas rocosas del interior de la corteza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Calibri"/>
              </a:rPr>
              <a:t>Estos movimientos liberan gran cantidad de energía de forma repentina, violenta y, en algunas ocasiones, destructiva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1" name="Imagen 3" descr="Dibujo animado de un personaje de caricatura&#10;&#10;Descripción generada automáticamente con confianza media"/>
          <p:cNvPicPr/>
          <p:nvPr/>
        </p:nvPicPr>
        <p:blipFill>
          <a:blip r:embed="rId1"/>
          <a:stretch/>
        </p:blipFill>
        <p:spPr>
          <a:xfrm>
            <a:off x="7740720" y="1844640"/>
            <a:ext cx="1239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ementos de un terremot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3" name="Picture 5" descr="terremotoret"/>
          <p:cNvPicPr/>
          <p:nvPr/>
        </p:nvPicPr>
        <p:blipFill>
          <a:blip r:embed="rId1"/>
          <a:stretch/>
        </p:blipFill>
        <p:spPr>
          <a:xfrm>
            <a:off x="1187280" y="1628640"/>
            <a:ext cx="3089520" cy="4653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1835280" y="47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IPOCEN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2205000"/>
            <a:ext cx="33130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IPOCENTR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lugar del interior de la Tierra donde se origina el terremoto; en él se produce la rotura de las rocas y, por tanto, la sacudida y la liberación de energí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ementos de un terremot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7" name="Picture 4" descr="terremotoret"/>
          <p:cNvPicPr/>
          <p:nvPr/>
        </p:nvPicPr>
        <p:blipFill>
          <a:blip r:embed="rId1"/>
          <a:stretch/>
        </p:blipFill>
        <p:spPr>
          <a:xfrm>
            <a:off x="852480" y="1484280"/>
            <a:ext cx="3394080" cy="51134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241128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ONDAS SÍSM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4716360" y="1413000"/>
            <a:ext cx="3527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NDAS SÍSM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las vibraciones que, desde el hipocentro del seísmo, transmiten el movimiento en todas las direcciones y producen las catástrof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8" descr="seismicwaves"/>
          <p:cNvPicPr/>
          <p:nvPr/>
        </p:nvPicPr>
        <p:blipFill>
          <a:blip r:embed="rId2"/>
          <a:stretch/>
        </p:blipFill>
        <p:spPr>
          <a:xfrm>
            <a:off x="4859280" y="4292640"/>
            <a:ext cx="30481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ementos de un terremot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2" name="Picture 4" descr="terremotoret"/>
          <p:cNvPicPr/>
          <p:nvPr/>
        </p:nvPicPr>
        <p:blipFill>
          <a:blip r:embed="rId1"/>
          <a:stretch/>
        </p:blipFill>
        <p:spPr>
          <a:xfrm>
            <a:off x="1258920" y="1484280"/>
            <a:ext cx="3108240" cy="46814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050920" y="32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PICEN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643280" y="2060640"/>
            <a:ext cx="37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PICENTR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el punto en la superficie, en la vertical del hipocentro, donde las ondas sísmicas alcanzan la superficie terrestre y se notan con más intensidad los efectos del terrem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ementos de un terremot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6" name="Picture 4" descr="terremotoret"/>
          <p:cNvPicPr/>
          <p:nvPr/>
        </p:nvPicPr>
        <p:blipFill>
          <a:blip r:embed="rId1"/>
          <a:stretch/>
        </p:blipFill>
        <p:spPr>
          <a:xfrm>
            <a:off x="2924280" y="1125360"/>
            <a:ext cx="3633840" cy="5472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468360" y="59500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HIPOCENT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611280" y="141300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PICENT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395280" y="3213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ONDAS SÍSMI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66 0.06012 L 0.32291 -0.17572 E">
                                      <p:cBhvr>
                                        <p:cTn id="118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04 -0.00786 L 0.32309 0.26243 E">
                                      <p:cBhvr>
                                        <p:cTn id="122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21 -0.01642 L 0.12813 -0.02821 C 0.13872 -0.03376 0.14566 -0.0585 0.15573 -0.06659 C 0.16354 -0.07053 0.18351 -0.06128 0.1901 -0.06474 C 0.19948 -0.0696 0.20729 -0.07954 0.22483 -0.08856 L 0.17795 -0.29758 L 0.2625 -0.06035 L 0.26927 -0.10105 L 0.27986 -0.117 L 0.31458 -0.12602 C 0.32813 -0.13758 0.33524 -0.1607 0.34792 -0.17503 C 0.35313 -0.17896 0.36476 -0.18636 0.37361 -0.18821 C 0.38247 -0.1896 0.39445 -0.17503 0.3974 -0.17503 C 0.4033 -0.1718 0.41094 -0.18197 0.41701 -0.18197 L 0.42639 -0.1822 L 0.44115 -0.18983 E">
                                      <p:cBhvr>
                                        <p:cTn id="126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El sismógrafo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79280" y="1773000"/>
            <a:ext cx="4897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Un sismógrafo es un aparato que detecta y graba las ondas sísmicas que un terremoto o una explosión genera en la tierra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El lápiz está en contacto con un tambor giratorio unido a la estructura. Cuando una onda sísmica alcanza el instrumento, el suelo, la estructura y el tambor vibran de lado a lado, pero, debido a su inercia, el objeto suspendido no lo hace. Entonces, el lápiz dibuja una línea ondulada sobre el tambor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2" name="Picture 4" descr="sismografo"/>
          <p:cNvPicPr/>
          <p:nvPr/>
        </p:nvPicPr>
        <p:blipFill>
          <a:blip r:embed="rId1"/>
          <a:srcRect l="9449" t="0" r="5504" b="0"/>
          <a:stretch/>
        </p:blipFill>
        <p:spPr>
          <a:xfrm>
            <a:off x="5219640" y="250920"/>
            <a:ext cx="3745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22:19:36Z</dcterms:created>
  <dc:creator>MORON</dc:creator>
  <dc:description/>
  <dc:language>en-US</dc:language>
  <cp:lastModifiedBy>Windows User</cp:lastModifiedBy>
  <dcterms:modified xsi:type="dcterms:W3CDTF">2021-09-27T16:26:19Z</dcterms:modified>
  <cp:revision>15</cp:revision>
  <dc:subject/>
  <dc:title>LOS TERREMOTOS</dc:title>
</cp:coreProperties>
</file>